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4C49B-11FC-498C-8F55-F91A3D06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0FA0E-A2DF-4824-8009-B498C37F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38101-379C-40C7-8F65-C16E468B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BBFB-C8A6-4700-87AF-8E0CE768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F772-B4D5-4AFC-9D76-3C0F7479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4CE3-C064-4C05-828A-9151BA69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3CB1-55F3-4A52-A1DD-9CA3BB90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660B-7028-41EF-92C2-1453D6AA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D608-F657-4367-8A2A-56E02A5D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FA2A-ACF5-473F-9543-3A4FD1A5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353F-81F8-4A7D-906E-08980E59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F644F-F973-4B56-846E-5ED39EE8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8F26-0228-4CA5-8760-4FB38391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1311-E3F3-48D6-9B01-95D1C978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E41A-5787-477E-9C31-94FDAFA8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3D3A-7BA0-4A4A-B798-9D106E5B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A119-A57E-435A-A6C2-B326BA76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8A26F-7EAF-4B3F-8CEB-828F5DCA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A9ED2-D3BD-4998-90DD-99C22182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E69B4-16F4-461C-A9D3-4057B0A3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D881B-3696-4AB5-BAF0-38E8DBA3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0EBB2-5AE5-4BE6-92EA-E11FDA06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BB49C-1D52-455E-B801-3C48D2D8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41A1-C0F1-4F69-BA01-9B57393F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3136-3332-4B1C-ADAB-C01A7BEC2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786B-4ACF-4EC0-A2FB-A7A0E8763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Poluarea </a:t>
            </a:r>
            <a:r>
              <a:rPr b="1" lang="ro-RO" sz="5400" spc="-1" strike="noStrike">
                <a:solidFill>
                  <a:srgbClr val="000000"/>
                </a:solidFill>
                <a:latin typeface="Garamond"/>
              </a:rPr>
              <a:t>mediului înconjurător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57800" y="4800600"/>
            <a:ext cx="3581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aramond"/>
              </a:rPr>
              <a:t>Grigorescu Angela-Felicia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aramond"/>
              </a:rPr>
              <a:t>Şc. cu cls I-VIII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Garamond"/>
              </a:rPr>
              <a:t>N.B. Locusteanu” Leu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gradarea mediului sau poluarea cuprinde alterarea calit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ţ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lor mediului 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î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conjur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or, p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â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la starea de incompatibilitate cu desfa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ş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urarea normal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a procesului metabolic din organismele vi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i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3336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Orice material sau substanta introdus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 artificial 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î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n biosfer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, sau care exist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î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n condi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ţ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ii naturale 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ş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i provoac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 modific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ri negative ale calit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ăţ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ii mediului, este un poluant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4200" y="2521080"/>
            <a:ext cx="2100240" cy="1436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142040" y="2292480"/>
            <a:ext cx="1270080" cy="1992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2743200" cy="1881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248520" y="4876920"/>
            <a:ext cx="26668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Factorii poluanţi pot fi 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: </a:t>
            </a:r>
            <a:br>
              <a:rPr sz="2600"/>
            </a:br>
            <a:br>
              <a:rPr sz="2600"/>
            </a:b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substan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ţ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e radioactive, </a:t>
            </a:r>
            <a:br>
              <a:rPr sz="2600"/>
            </a:b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chimice (DDT, Pb, Cd, Hg), </a:t>
            </a:r>
            <a:br>
              <a:rPr sz="2600"/>
            </a:b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rezidu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u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ri petroliere industriale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,</a:t>
            </a:r>
            <a:br>
              <a:rPr sz="2600"/>
            </a:b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rezidu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u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rile canalelor de scurgere, </a:t>
            </a:r>
            <a:br>
              <a:rPr sz="2600"/>
            </a:b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diverse rezid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u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uri organice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 precum 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detergen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ţ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 sintetici, </a:t>
            </a:r>
            <a:br>
              <a:rPr sz="2600"/>
            </a:b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utilizarea pesticidelor remanente, organoclorate, "smogul", </a:t>
            </a:r>
            <a:br>
              <a:rPr sz="2600"/>
            </a:b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folosirea ira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ţi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onala a 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î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ngr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ăşă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mintelor chimice </a:t>
            </a:r>
            <a:br>
              <a:rPr sz="2600"/>
            </a:b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stropirea plantelor cu ape reziduale, impurificate, provenite de la diverse indrustrii.</a:t>
            </a:r>
            <a:br>
              <a:rPr sz="2600"/>
            </a:b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1320" y="838080"/>
            <a:ext cx="27622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Dintre obiectivele ocrotirii naturii fac parte: </a:t>
            </a:r>
            <a:br>
              <a:rPr sz="2800"/>
            </a:b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utilizarea ra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ţ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ional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conservarea 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ş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i refacerea resurselor naturale,</a:t>
            </a: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prevenirea polu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rii mediului, </a:t>
            </a: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conservarea speciilor rare, pe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ş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teri, declarate ca monumente naturale, </a:t>
            </a: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ocrotirea ecosistemelor naturale, care are 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ş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i un mijloc de 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relaxare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ş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i tonificare a energiei fizice si spirituale a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le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omului.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PĂMÂNTUL este casa noastră !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Dac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noi nu o vom proteja,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nu va mai fi timp 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ş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i via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ţ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a nu va mai exista. 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Omul 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ş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i societatea uman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fac parte integrant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din biosfera 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ş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i depind str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â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ns de resursele ei.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Protec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ţ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ia biosferei este de o importan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ţă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capital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pentru umanitate.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uni</cp:lastModifiedBy>
  <dcterms:modified xsi:type="dcterms:W3CDTF">2012-04-20T10:34:16Z</dcterms:modified>
  <cp:revision>5</cp:revision>
  <dc:subject/>
  <dc:title>PowerPoint Presentation</dc:title>
</cp:coreProperties>
</file>